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808A-E19E-4485-9440-A65FB2C1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48A3-78D6-468B-A25C-7A326B50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2B4A-9CA6-49EF-9924-F8DE77CF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C6FA-BF5D-457B-830D-786795FF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94D4-4887-4167-B46D-6187A04E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E024-1D12-4176-AC5D-389ADF36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8797-DAB4-445E-BAA0-B7C72ADC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611E-13C3-4BA4-96D2-6CD840B9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90E6-8A7C-4714-9E6B-6AC77609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D517-418D-4075-90C2-C7FC161B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04F5-B5BC-42E2-9A8D-405D832A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622D-6D1B-4261-844A-C7A8DB0F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C116-23F3-4AB7-851F-8E2242140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12.xml"/><Relationship Id="rId4" Type="http://schemas.openxmlformats.org/officeDocument/2006/relationships/slide" Target="slide5.xml"/><Relationship Id="rId5" Type="http://schemas.openxmlformats.org/officeDocument/2006/relationships/slide" Target="slide9.xml"/><Relationship Id="rId6" Type="http://schemas.openxmlformats.org/officeDocument/2006/relationships/slide" Target="slide13.xml"/><Relationship Id="rId7" Type="http://schemas.openxmlformats.org/officeDocument/2006/relationships/slide" Target="slide6.xml"/><Relationship Id="rId8" Type="http://schemas.openxmlformats.org/officeDocument/2006/relationships/slide" Target="slide10.xml"/><Relationship Id="rId9" Type="http://schemas.openxmlformats.org/officeDocument/2006/relationships/slide" Target="slide14.xml"/><Relationship Id="rId10" Type="http://schemas.openxmlformats.org/officeDocument/2006/relationships/slide" Target="slide7.xml"/><Relationship Id="rId11" Type="http://schemas.openxmlformats.org/officeDocument/2006/relationships/slide" Target="slide11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3.xml"/><Relationship Id="rId3" Type="http://schemas.openxmlformats.org/officeDocument/2006/relationships/image" Target="../media/image2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ORD FAMILY GUESSING GAM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" cy="90504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0" y="0"/>
            <a:ext cx="8915400" cy="905040"/>
            <a:chOff x="0" y="0"/>
            <a:chExt cx="8915400" cy="905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91440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182880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266688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6"/>
            <a:stretch/>
          </p:blipFill>
          <p:spPr>
            <a:xfrm>
              <a:off x="358128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7"/>
            <a:stretch/>
          </p:blipFill>
          <p:spPr>
            <a:xfrm>
              <a:off x="449568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8"/>
            <a:stretch/>
          </p:blipFill>
          <p:spPr>
            <a:xfrm>
              <a:off x="533412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9"/>
            <a:stretch/>
          </p:blipFill>
          <p:spPr>
            <a:xfrm>
              <a:off x="624852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10"/>
            <a:stretch/>
          </p:blipFill>
          <p:spPr>
            <a:xfrm>
              <a:off x="716292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11"/>
            <a:stretch/>
          </p:blipFill>
          <p:spPr>
            <a:xfrm>
              <a:off x="800100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914400" y="914400"/>
            <a:ext cx="914400" cy="990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1828800" y="914400"/>
            <a:ext cx="923760" cy="914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2666880" y="914400"/>
            <a:ext cx="914400" cy="903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5"/>
          <a:stretch/>
        </p:blipFill>
        <p:spPr>
          <a:xfrm>
            <a:off x="3505320" y="914400"/>
            <a:ext cx="914400" cy="903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6"/>
          <a:stretch/>
        </p:blipFill>
        <p:spPr>
          <a:xfrm>
            <a:off x="4419720" y="914400"/>
            <a:ext cx="914400" cy="903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7"/>
          <a:stretch/>
        </p:blipFill>
        <p:spPr>
          <a:xfrm>
            <a:off x="5257800" y="914400"/>
            <a:ext cx="914400" cy="903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8"/>
          <a:stretch/>
        </p:blipFill>
        <p:spPr>
          <a:xfrm>
            <a:off x="6095880" y="914400"/>
            <a:ext cx="914400" cy="903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9"/>
          <a:stretch/>
        </p:blipFill>
        <p:spPr>
          <a:xfrm>
            <a:off x="7010280" y="914400"/>
            <a:ext cx="914400" cy="903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0"/>
          <a:stretch/>
        </p:blipFill>
        <p:spPr>
          <a:xfrm>
            <a:off x="7924680" y="914400"/>
            <a:ext cx="914400" cy="903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4648320"/>
            <a:ext cx="2743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Fami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celebrate this on the day you were bor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9880" y="3276720"/>
            <a:ext cx="4267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TH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311148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pposite of la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580920" y="55627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971800" y="1143000"/>
            <a:ext cx="2755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pread this on toa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57600" y="5714640"/>
            <a:ext cx="2362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14600" y="1676520"/>
            <a:ext cx="426708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waiter will ______ yo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81280" y="548604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124080" y="1219320"/>
            <a:ext cx="3695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black and white ball that you kic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8960" y="487656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733920" y="1600200"/>
            <a:ext cx="2887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means to get sma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04960" y="548604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657600" y="1371600"/>
            <a:ext cx="20653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te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a category and an am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mouse to watch the answers fly in to check your wo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to the main page by clicking on the letter of the alphabet from each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D FAMILY GUESSING G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676520" y="1447920"/>
          <a:ext cx="61722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ch! I am 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57600" y="403812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352680" y="1676520"/>
            <a:ext cx="26672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_______ wood in the firepla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8640" y="5105520"/>
            <a:ext cx="1676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819520" y="1371600"/>
            <a:ext cx="365760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imals don’t have hair, they have 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57240" y="5562720"/>
            <a:ext cx="1981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482292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276720" y="1676520"/>
            <a:ext cx="3198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pposite of straigh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57240" y="5181120"/>
            <a:ext cx="1676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316240" cy="289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2841480" y="1697040"/>
            <a:ext cx="345924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n animal the fli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86200" y="5029200"/>
            <a:ext cx="1371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90920" y="1371600"/>
            <a:ext cx="330012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pposite of a bo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657600" y="49525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286000" y="1676520"/>
            <a:ext cx="35244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4:42:40Z</dcterms:created>
  <dc:creator>Amityville UFSD</dc:creator>
  <dc:description/>
  <dc:language>en-US</dc:language>
  <cp:lastModifiedBy>FCSD</cp:lastModifiedBy>
  <dcterms:modified xsi:type="dcterms:W3CDTF">2008-06-04T16:55:28Z</dcterms:modified>
  <cp:revision>5</cp:revision>
  <dc:subject/>
  <dc:title>WORD FAMILY GUESSING GAME!</dc:title>
</cp:coreProperties>
</file>